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D91ACC-013F-49CA-B386-51036E96A2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98BCEE-628D-4AA7-9158-DA8A0786DF7B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5D8F8-D117-424E-AE17-322DBD898063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F9B-B81A-4511-B506-9816F73A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E0B-AFDE-4F26-9F75-E280EA74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3D4EC-6C65-41D0-A1DE-10A5B802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0BE24-4B83-4DCD-BB06-10CEB677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72719-6DC2-44FF-A285-E40ABD0D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32A53-3CFC-439A-9A61-2108A9C6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05546-700B-4D3E-B5E4-93453D97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1313A-9718-4955-8654-8C35BF4D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58A24-53E9-4355-B21D-F7CD3C28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B0BFC-55E8-44BB-8F1E-1F031036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5E98C-5C2F-4A52-A76F-829D0B15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85662-249E-4EEE-A39F-8D61FC66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0B2-5656-4C58-89B1-B73C6B0D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51116-B6A7-4FB6-A161-88ABA4EF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2CCE6-905E-4CAB-B869-6146DA42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307F1-7012-4D60-B28B-4E9D17FC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278B6-2013-4057-B252-0F608092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3B113-3581-4A81-8AD8-DC90E4D4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D957E-BDDB-41E2-A4D1-ABCCE46F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7C012-6BB3-4C79-8B34-5972786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9B2A5-81BA-4029-A18C-68671E5D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70B66-202D-4517-8EE2-D8F85F5A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AB156-DFF6-4047-AEB6-F1850EF3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55C-7E5B-4B91-943C-7BE70DEE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C4EFA-3D6A-4864-998A-4EDB7ADF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706CF-5F1D-4C22-86C4-57AD456A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85243-13E0-47F3-BD07-3D578A9D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E6C22-B9C2-4C8C-AD69-43688FFE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45CA5-9DDF-4A26-A5BD-803B62B6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A072A-960E-4EA9-956D-06A39A28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1839B-6BAA-4519-AD34-8054CEF3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CAA7C-2DB5-49D4-9E80-2DEC8D6C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822D9-9682-4DF0-84F1-5F7B7DBE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E2275-0A33-4D93-96DD-97A57C9C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D3342-AF5E-41B0-8180-F53004DD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240E7-4E58-4C90-AB48-BA7491C2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AA5AF-C2B4-41DE-A79E-E674957C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12D5C-F41D-43C6-8BC3-53E0EC87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DEB1D-C990-462C-9498-8ECCD684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0DE6F-E6EA-4255-9D26-4CB62956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74EBD-88A2-4528-82DF-02A9CCE5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B39AE-58B8-4AE5-8698-376415B0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EE7BC-DE87-481A-913C-80EDC177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C7BCA-928E-4C70-96BB-84CB09AE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E4954-AFD1-4D6F-A6DC-544FE8C5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4AC60-40A1-4078-9CD4-0DAC7420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2CC6A-6632-4BFA-9F19-CB1EC0CF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65E58-3CB3-4EB8-AE17-6C8D5C62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7DB59-141A-4107-A459-D49ECAB6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5278B-F389-41BA-BD9C-58897F83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1F79D-B6CB-4B2D-A88F-CED816D7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8E60B-7A0B-4214-8A36-0408B502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DB57A-4EE1-4546-B777-5307ED8C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ADF33-3CD7-4743-8314-FF417A05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7922B-2E3A-45F1-AF59-644695EE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77C4A-7C93-49B8-9D9D-643F0399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FBF5B-E1D4-4BBA-98CB-28CA34BE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F8306-E57E-4D55-9D1C-9AD14D1B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B5156-AABC-4D4B-B343-88A6AD06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7FC8D-2757-4788-B1B7-1F1BEC12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1EB82-EF5F-4581-9901-002076A8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C7E17-EF5D-4B6B-AC5C-8FAD3AC5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8741D-C210-439C-B95F-83FB24EC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BD5E7-70B8-4927-BEF8-7F468AA3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80282-4DC7-4E42-82E9-C3AEB4A2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E746E-E2C8-47A7-A287-4056E24E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FBEDE-9C44-4A2A-84C0-22ACD5CE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15E0E-9B2E-4342-8F47-DD4D3E48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73462-8E1A-4D32-BF13-E08C95E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4D394-E07A-43EE-B1B9-AC6B2376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B521C-796D-432A-A6C5-E9BF5C1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C764B-14A7-462A-AF56-B43E75D6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BA66A-8861-45C7-9636-5841325A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53415-386A-4396-A7E8-A65D8793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3FAE2-B902-41BE-8B3F-F922F62F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F3755-7F28-4294-989B-7D980AB2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4446D-9C14-471B-80D2-9E1F7468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19356-052C-44A8-94E1-7C25BB20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B91C8-BC86-4752-BA1A-76F3D4B0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B08E3-1DFD-4907-BDB4-0AC54F24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BD937-4C7D-4F7A-AA24-94C2244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6B3BC-1A1A-47CE-8CE7-02A8DD77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8FAF3-323F-484E-90C7-FD545D18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11D2C-5F06-41CE-93C5-CD6E7BA2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4B19F-B499-4840-B74F-D5B2EE4B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6AC7B-E945-4340-BBBE-07E35A78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E17A7-BF42-4F06-8833-C325B458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92688-0621-4B26-A9B3-2D3F7426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309B7-E871-48A5-80FC-BFFBDBD8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098CC-018F-4537-9384-A642177F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BCBD3-1306-4C67-AD6A-96E5BDD2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6F16D9-4309-4286-A6C0-240D8520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C15D5-3F82-488D-A0CB-06B78B5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DBEBF-8091-4AC6-8368-59EEE7C1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9D2D8A-0808-491C-AD62-DAE89436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4E22E-AA3E-4654-8AB0-033EFCC9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C28D8-99CE-4923-99BE-5EDC6AC4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5B86B-0500-4EE9-B3FA-7675CB07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3593C-5E6C-4A33-BA69-D9EDE138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FF0D2-8C33-4B47-9193-8D705423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0C673-821F-4539-89F8-D6131C27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256BDF-F3AD-4C04-A941-AE9D21E3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07B60-99EC-4873-9E3B-23CF260A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FA173-6248-48F1-9FFB-BF411A51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4AD-DE61-48B4-97D4-CE047C64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67A33-5FEB-4D08-B9D6-F4A0C3DE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8BD08-3700-4C5D-B45E-1EC3D60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FFE25-0D94-48EB-BA2F-9E60DB86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6DC164-6330-43C4-8F5B-223D0BF4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263A3-2F54-455C-AAC1-C0C23CCA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C7227-67BF-42F0-A5BB-5D4C49B0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C06AD3-CF5C-4629-9264-65B98CA9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6D5F2-83AD-4816-9286-C527E4AA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BFA7E-6713-42F4-9025-E56C5FC4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4910A-FB6C-455D-9F95-EAAA2B77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EDA014-6AC6-4C0A-862D-E553A3E3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3E2C4-B46A-499F-A094-F17B935D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55807-8AB2-4D23-83DF-B2E855F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5D062D-33A6-495E-AFA8-85AA503B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AA3B5-EFD5-40D9-8979-92FAC30C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00AC5-0F74-4504-95EE-D0100C92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56517-3AAC-4B3D-86FD-6CC11F41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1EB-D786-45A5-A3E3-229E731F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08F-284C-494A-A153-E4EE3404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18B9E-8380-4436-A9B4-A5997BC9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291-437D-453C-93F0-2128ABF3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7C5F5-946C-4429-8778-D5E48843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10B1D-6F67-48A4-98BC-E1259FAB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8D823-1A29-426D-8335-A7C85725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BC25-B587-4AFA-A784-CBACC746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70C57-ECF9-4A1C-A239-90205DD3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56D50-C517-408E-A142-D66F587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E96A-DDC0-4341-8D28-4604FDAD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C6CE-342F-4E71-9219-66997DB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9A3A4-1C49-464D-B70F-7C14D577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CAF5B-2FE4-433C-A799-7272B906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5A8-E17F-46E9-A7DD-0B395B53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B51D-B774-4D8F-A1B1-50B1DFF4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D413E-8B63-4424-8EF6-957063C9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44EC-CE2B-4282-8155-84F0DD68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20FD7-B8A1-4597-930A-F773FEC8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114D6-0617-46D5-8704-5C6D3B13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BB3CD-768E-456D-BCF9-7975E3BE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FFD7C-39F3-41F2-AE6E-2C8E82A4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C0516-D9AB-410E-BE29-45677D18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E20D6-4E9C-406B-B63A-458103E7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CAA9C-D40A-41DF-8BB9-5442CA3F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E2F-36DF-48F5-8420-D3A4647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9A197-7966-4A4A-93AE-446B5749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CD526-B43A-4B91-9178-58087BBD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AF2A4-BAFD-4355-BDC9-6C1D0C83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5E838-2DA0-4E53-98C5-5391E6C6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B57A4-D620-479F-A489-69C9985A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DFAD4-5A2E-4ED9-B88F-39D15E8C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35DE7-7998-4CBC-9FF9-532A8254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646DD-708A-4A61-A956-493214CF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9EF1F-BBE0-4A6A-B3F3-3723A2AB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825D5-D74A-4D50-BD72-24DE96ED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512-A897-4B6D-B998-456BED65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D9058-C69D-472B-BDA2-41E0B40C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06E6F-A0DD-4878-861B-4320A12F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D582C-3B29-42CC-B4D3-B53361D2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112AE-7AF4-4E8D-AC49-A0948085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2275B-94CA-4352-8593-386E3656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F46DC-8AC6-49AD-9523-F9E8CA7B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BAD46-C547-46DC-9F9E-3CBEEF55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750FB-BE00-4519-9870-51346456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849E3-05D8-45FF-9E68-3C676F6E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22F86-BA97-47E1-80A6-13A43A35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818-8415-4186-943A-69EE472C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7418B-3F64-4F96-9841-F000DE98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28FCE-8C5B-4DA7-8073-FB69E3D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2D12A-CE47-4CEB-AB97-CFD805CF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61A19-A1DE-44AB-87E0-68D0DC07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2324C-3DA4-4DC5-93EF-9880B4DB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8D0D-2430-4D63-8EC7-7349EC4E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4C873-5376-4C3E-A45F-DECF3611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7AB76-4254-4827-942A-6A4F6175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CE3BA-744F-4E13-A986-9676F8DE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3A15B-80AD-430A-8344-F20936DA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3706-1D31-4FE7-AC3E-66E9C87068B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51BB-1393-4F1D-BA6F-95D73D33C19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68A2-08FA-494C-B809-46FA2857295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9B9D-B16C-4DA7-8C6A-CB4F9F20F1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57EA-2C56-4B25-B8C4-ED0469D422D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DC10-D55F-4381-B2DF-265DA38D90E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A2E4-3E3A-4DB5-B9CE-B763E8EC06D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8AB2-8DB8-4CE6-BD01-FFF23E7980E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8584-384D-49FC-89A9-D896A1C1281F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93ED-7931-4B29-901C-A48C7751A61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625F-FC03-4BCF-93E2-DE20A24CFD1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6942-9589-4B1F-9A08-F57B381FE8B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A17E-877F-4C81-A68C-2149ED81025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806F-A386-4C0D-B404-F3FFEF19BC2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4881-0876-4ABD-A082-3FE0A85EF4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62ED-E246-46CF-BF43-F264EAE09F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C4F0-2269-4EAA-AF51-2B711E9813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D1D2-ECBC-464B-B893-236824A8BB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CA43-6902-4743-ADFB-D7B5D51C9B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F4A4-ADDE-42A1-8C8F-1FA3E39CB6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180A-AEA8-426C-AB9D-5E1EF1593B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B293-9D4F-4AE2-8BCD-70BD7A0EC5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939D-112E-4BB4-A5C7-14B85BBAC4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45A7-B101-413F-8CAD-90FC1B81D0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4FD6-DFDC-4F75-80DA-B82CA04F3A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6A06-6CBD-4364-87F8-C0599F70F5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D121-0017-4113-A98A-DDBDA1A626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43EE-58A7-4A93-AC92-FD4B53ECB4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FD3F-458F-49D5-BC7F-A25B7D0C8F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376E-E9F3-4ED8-BEB5-9712BD214D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677E-5C87-4F41-8650-21C539F595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892E-B25B-4D39-B72D-61BD00E816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6752-F7D3-41A8-BA94-7AC6AE27D8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102B-590F-4468-8C96-8B21529B8D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BCBA-2EA4-4387-925C-10F18335BE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7EBE-5219-4C71-8D12-144FFA993E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86FF-0C5A-4B34-BC5B-D790910AD0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B176-ED5F-46C2-B6CF-9D4F212D9F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89C4-B2DA-4BD0-9A2F-46584034F4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54C4-A422-49B0-81B9-B5FCB4C320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D033-9D43-473D-90D3-3BE50DEE00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D848-4400-4981-99B2-4D0A80479A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D7FC-940B-4EEA-9288-7157D743A7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BD9C-F067-4A98-9480-A681DE9530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EC54-2216-4F34-890F-052987938B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4A7D-6589-4A85-B335-BF66AC3AF3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5F75-9151-4B35-BDB8-DE27A647B3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4ADC-771E-4B7F-B120-D311B63D2E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1C94-AE61-4F09-B62B-1206B38A40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C88E-C7A0-492A-9FB3-E83482B00E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4425-4A1D-4278-A4A3-9FEB7DB6E7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13D8-F78A-46AF-9351-A3DC944F62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5DD7-D4B4-47A3-83B0-2CF1F0E9CF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41FB-614A-4DAE-9218-7167A818B3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05CA-2F28-4CE6-A20C-0787F52B91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1404-FEE5-4075-BEFC-1500A9A3E7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EF6A-A8BE-4B2B-961E-C9CBAD42B5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FCA-F322-4D4A-96A3-E3ABEFC964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831F-4425-4738-ABE4-A409A896B8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2F9F-0EA7-44B1-AC53-529AEA1C48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3EDA-325B-4AB4-B5DE-A1864DD2DF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E6C8-2A68-4170-ABDB-E66E018C4F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43B1-348F-4320-A210-77EDB706AB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E334-F4CB-408A-9DDD-1792F78F9C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F81C-9325-4E93-948B-3DE635384F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E0DD-7167-4DE8-A21F-8115AF6173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ED50-151E-4C51-A367-22E3530C9A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6188-957E-4EB3-8715-E90DCDD020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F56F-AD51-4E8B-AB81-AE967605E2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B1BC-BC86-431E-918F-47FC52F054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4271-B14B-4C39-89CC-5DEFF0CB15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F266-E41D-444C-BF95-10989E2EA5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9-08-06T10:47:20Z</dcterms:modified>
  <cp:revision>122</cp:revision>
  <dc:subject/>
  <dc:title>Aims and Objectives</dc:title>
</cp:coreProperties>
</file>